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505-8BF7-4126-A6B0-A7EF1217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8335-2535-4B1E-A3A0-618CE2DD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2CF5-13AC-4798-A1E5-FCD8AB92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8BD5-17D9-4A6E-AD9F-BB382F5E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176-F775-4EA0-8909-A69860A58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A14-348B-497C-8BC4-0F173FB3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77B-24C4-42A3-8C78-9EEA060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B55-83D2-4AFB-A619-EBF44EBA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36C-3ECF-4A5D-89A3-D665B491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53A-90DD-4D5A-AAB7-93A05802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098-2A8E-4247-992C-3247F78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8CC-CA42-434C-9F2F-DEE87A1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5F8-1583-44EC-B052-4BFC316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CEE-AF6D-465A-BB6C-3672970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ADE-3679-400A-86C4-BFB47C3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826-A487-40CA-B190-19EC6DFD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B44-58C0-456F-A49F-208C4CA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760-BADD-467E-A4F6-BB201749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1.jpeg"/><Relationship Id="rId17" Type="http://schemas.openxmlformats.org/officeDocument/2006/relationships/image" Target="../media/image5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idea borrow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echtoolsforschools.blogspot.com/2010/01/facebook-project-templ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0880" y="58802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Vickie Garner</cp:lastModifiedBy>
  <dcterms:modified xsi:type="dcterms:W3CDTF">2010-10-21T15:40:44Z</dcterms:modified>
  <cp:revision>19</cp:revision>
  <dc:subject/>
  <dc:title>Profile</dc:title>
</cp:coreProperties>
</file>